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AFD6-6D01-4BA0-A4D8-7DEE3EFD6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655B-7AB0-4F95-A624-1380B817D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1F2124-7BA7-4BEC-B621-ECCDD8880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CDA0B2-E080-43E3-A551-7B79F518D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88F6CB-D752-4F88-9153-7A08B9F7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7F0206-51EB-4543-96D5-A49C4F56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DC5B37-E341-4B17-A1E7-FFEB40BC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6C6A41-3A85-4A0F-96A3-82E5C649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924FC5-708F-4A83-B8BA-40FF5E7F3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8CDC66-7578-4475-BA3A-093651AF2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90A228-13DE-47BD-9340-B3A3F282C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2E5C77-B399-44E7-B304-F3F918860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7AF9-3F10-4112-8258-50EF4C7E1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844748-1382-4C91-AB60-1442D0DC7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1C8E77-4551-41DF-85D6-0F23B6368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7E67A2-BACD-41C2-AB90-E56989048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D5F473-A935-481A-A975-3BEB29385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961DA1-5D25-4551-9F36-471A5F060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15CF0C-A96F-442B-9CA5-CFC0B414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780F22-F20A-45D0-9D2B-B348C788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C17F68-3D61-4F81-8E33-D1C29456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D14957-FF4C-45DE-A083-08ABB1B2B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B00A15-5A54-46A1-967D-C65C3D84C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42E6-E831-43F0-B82B-5A9CF5676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A9015F-F09E-4ED3-BC46-236603527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B82C3D-41D2-4437-AAFF-F2E879070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17889B-4B01-4B3C-B31E-BEF90A864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548467-8F7A-476D-8D01-7AD8E45A2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4C9067-49D2-4486-81D0-C8B77B539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EF0B51-857C-4396-A87A-CAB29B129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880AF9-8506-4264-903C-ECD25376C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F2CCCC-CD93-4B1E-BF82-66F311BA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9D5741-0E29-41F4-882F-E4C46CE7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9E1DA3-D760-419E-AAD9-62AC44CF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7AB4D-AB75-49D8-B9EE-DE9F5F168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C7D551-82FA-43E0-B2B6-9DB1F15C3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FFBDDB-4E0D-4460-95BB-D13A76A35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FFDD8E-39E6-40A8-8FFE-BFE379816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BB710C-DBCF-4768-B455-9328AC5E3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223667-C859-414C-997F-E9E297395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AA8D39-7A92-4E5D-BFF7-70525035F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7A8773-3861-459D-964E-7987C9269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98F41A-4111-4DA9-B81A-7080BBA1A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A121CB-A9E7-4AAA-AF2E-8B473CB47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EE05F0-36DE-4ECE-BFE3-0CFD2A66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4967F-EB52-4C93-9935-2091CB05F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3B160A-5C55-4E7F-AD5F-F16CBE53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B14BBB-6161-4DAD-BAD1-61E676CB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592D4F-1355-43CA-A5C7-F245D8DDC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0F2143-07AA-4567-879E-1F4B4D1DF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90DC36-4FD6-4A23-AC99-EC36540DE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D24C9-BB94-4DF6-92B4-4D7724141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E82D1-E373-4E33-B7B9-A69A527DC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C4DE6-178C-4820-9FDF-6928AC5FA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2801E-1AFE-4562-968C-8A6FD1E44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C13C8-9603-44AD-BD40-DF01AA3A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FA86-DFB7-4A23-9A4C-555DA649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25AD1-DF0D-426E-958D-2078204A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4D1D3-332F-4A46-8919-A457CE96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FA6B2-7E23-4DD4-B989-59A377EEA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5B5CF-86AD-48BB-A8FD-BD7215CCE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C700C-4323-4D8C-A8CC-AA93943E8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D656D-6083-4E3D-8BCE-5A5CE2512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6A350-497D-4B8E-A650-905BFFD84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92A7B-5678-4D16-8776-0A243C5BF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38A56-1856-494E-A572-91926174E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99770-DE6F-4D69-B880-02FA8F3D0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ADCF-9376-4CAB-A54D-95DE4045C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6051A-D9C7-4D81-A578-48C54689E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D5C70-E361-42AA-967B-AC03C0AC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E66C0-ACA2-4285-8C24-4A677410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1EE37-9EB6-4932-84C1-94196FF2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E1C8F-06A8-401E-B700-4D2FCDC26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5F129-0F78-4039-822F-A110300A4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66DBA-78FE-47F9-87A0-7E38D5195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495A7-14C8-4CB0-BAD9-83747222A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0F643-FFC0-4FDA-A100-BF390D717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AB251-A69D-4E20-8172-055844188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1DF7-8DA6-4E13-AAF8-84A188650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D110D-7FB0-4EE8-898A-3AE7FCD5A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EB87C-A769-4258-86D2-0E0B3727E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5C997-C36A-4BE3-B125-06E114C8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A7820-8E3F-4629-B336-6B6800DC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E0A55-F1F2-4BFB-BA30-3B7B90B5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57CFF-5873-4BD9-AC1E-65B63E34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30890-48CD-4CD4-9876-6ABAE04CF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9CFCC-86F0-4348-93B7-353C6B8DB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B7529-F561-4981-BA3D-D5C2747F3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B3959-10AF-489D-8972-C3E4C1785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1280-5A5D-4E14-88E7-DDEBC0595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1D247-CB40-46E8-B199-C01CB045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68DEF-E365-48F8-BCFF-BD4A4A10C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50261-3BF4-4206-BBCE-C06CE858C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A7A85-18F1-43B6-93F7-9E1101DCF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2F135-0A7D-40A2-8A45-54F0A8B74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41C90-CE9B-44E5-8790-26320898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672DB-ADA3-4CFD-8157-CC596A7C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C0924-82C0-4DBB-A898-E33AC32F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FC6C3-D43E-4A83-9C8E-DFA379089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D4C52-239F-41F8-84FD-24A870B5D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F077-109F-4362-9266-9DFBD00EB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B35E5-3AD2-435A-B147-33A2BD30C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5E6EB-723B-458C-AA17-6FC9A7548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1EE00-F98F-4ABF-A05D-6ED3868DF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5817D-E77F-4FB4-AE6C-CCCECB21A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151B3-9317-43B3-83AF-636CBE3F9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139A4F-395E-4582-B478-D3B0EF0F8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BFB87-737A-45DB-904C-BC9D24EB0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34A6F-0A16-40EB-8DCD-51749A6B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3857A-EBD3-4892-8DD1-8D0422BC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465AA-6377-439D-B1B0-219EA4F3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A611-E05C-4828-AD55-180ED567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30760-D24B-4978-A134-029BEAD8A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48F42-18EE-47CA-BAF6-35F23F314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43A1B-3396-4832-AA37-97F5EC35D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A561D1-3732-4F86-BA65-094160030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60B541-4BE1-4681-A83F-078476731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0C9E1A-6FDD-47D6-B9C6-4EE77110F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01496-EDAC-4677-BA62-3F52D248B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B2159-E78B-4EFD-9BD3-D4AFA2840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4C1F5-7D4E-4AF9-B1CA-04A997C29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FE3A9-345E-4456-851C-265D5709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356F-9342-4A5E-B86F-1A7D2264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D45FCE-5AF5-4395-A82F-183E4A89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0533E-2BC8-42C5-BE04-96A4E39B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5CE030-2637-459F-A44B-B63A413ED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74784-68CD-473C-A854-285620697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D3BE8-FF3A-49B2-B8BA-F2864C89B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9BC7F7-2535-475A-BCA5-3F26D8CD9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E54707-D5C6-465B-8043-8DFB995F4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7AF7C9-54EC-4A1D-80AE-C3C4AAFBF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C5770-4809-4786-B4F1-757F9E5EA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C6036A-7B00-404E-987D-D783EBB68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A8FE-6540-4229-B980-B4092679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B85FC1-1AB9-46A4-AAD3-CE4316795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9CEDE5-C99E-4CC0-9AAC-EF9884152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125B53-B871-446B-8EA5-66C1F241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45B190-6C9E-4527-A6C9-097E8A56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33FF5A-24BF-4340-B3B0-8AD4FF1FB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454057-FF0D-4144-A01A-DCDA159F1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2A66A2-6D34-45F8-AFDE-A5F73C5D0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981495-B4E4-4071-8FDD-F536AED62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CB64B4-2097-4365-A20B-0EEF359AA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2E4468-AAA3-4701-8710-0952F1FF6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B4CD1-16E8-46CA-9842-AEA1AC81C356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F14C4-F8D0-4D47-ADD4-0E5918E7EFC0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DAB17-918F-42DB-AEBE-DDAB17EB46C8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F70E6-ACDC-4A62-A7AD-F553805E3C20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5EAB8-1C60-4698-8CAD-CC7EBF37F39F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94C65-EFAE-4583-8D52-8B40E6B83B73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3D86E-31D1-44C1-8249-8EF027016E06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ED51B-A5AA-4B80-8B07-632AC5C2021F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EBA44-23EB-4493-AA4B-7420D658633F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0B963-9913-4BA9-B3F0-6113181F86BF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BC565-7BA6-4808-A538-95F501DA7941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6C58E-68D2-4B01-972E-72A14480D83B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3779640" y="4941720"/>
            <a:ext cx="457812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НЕЧИТАЙЛО И.Н., ПРОНЕР М.А. УЧИТЕЛЯ НАЧАЛЬНЫХ КЛАССОВ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1402920" y="2205000"/>
            <a:ext cx="7054920" cy="17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2060"/>
                </a:solidFill>
                <a:latin typeface="Georgia"/>
              </a:rPr>
              <a:t>Распродажи, скидки. </a:t>
            </a:r>
            <a:br>
              <a:rPr sz="4200"/>
            </a:br>
            <a:r>
              <a:rPr b="1" lang="ru-RU" sz="4200" spc="-1" strike="noStrike">
                <a:solidFill>
                  <a:srgbClr val="002060"/>
                </a:solidFill>
                <a:latin typeface="Georgia"/>
              </a:rPr>
              <a:t>Решение задач.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8" name="Рисунок 4" descr="скидки.jpg"/>
          <p:cNvPicPr/>
          <p:nvPr/>
        </p:nvPicPr>
        <p:blipFill>
          <a:blip r:embed="rId1"/>
          <a:stretch/>
        </p:blipFill>
        <p:spPr>
          <a:xfrm>
            <a:off x="539640" y="476280"/>
            <a:ext cx="309564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9" name=""/>
          <p:cNvGraphicFramePr/>
          <p:nvPr/>
        </p:nvGraphicFramePr>
        <p:xfrm>
          <a:off x="395280" y="549360"/>
          <a:ext cx="8353440" cy="5472000"/>
        </p:xfrm>
        <a:graphic>
          <a:graphicData uri="http://schemas.openxmlformats.org/drawingml/2006/table">
            <a:tbl>
              <a:tblPr/>
              <a:tblGrid>
                <a:gridCol w="1670040"/>
                <a:gridCol w="1671480"/>
                <a:gridCol w="1670400"/>
                <a:gridCol w="1670040"/>
                <a:gridCol w="1671480"/>
              </a:tblGrid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</a:tr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бычная ц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2 39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3 00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5 00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4 50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</a:tr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кидка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Без скид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</a:tr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кидка в руб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</a:tr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онечная ц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2-19T12:14:11Z</dcterms:created>
  <dc:creator>Дом</dc:creator>
  <dc:description/>
  <dc:language>en-US</dc:language>
  <cp:lastModifiedBy>User</cp:lastModifiedBy>
  <dcterms:modified xsi:type="dcterms:W3CDTF">2023-02-21T12:12:38Z</dcterms:modified>
  <cp:revision>19</cp:revision>
  <dc:subject/>
  <dc:title>Распродажи, скидки.  Решение задач.</dc:title>
</cp:coreProperties>
</file>